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63BD-8FE1-4EF0-8E03-4B3B2FFA8F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B143-5518-4512-B7B9-518E027691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7B37-BB39-456C-99EE-4D31A77E2D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BBDF-15EE-47DC-BE16-E88B7ACBA9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0A82-3698-4BBF-B7D7-9D7CAE30B9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DDB5-8EFA-4CB1-A13A-DE7677BE6A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2F30-0601-4F49-8D5B-E5BB423224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5585-FAD5-4C47-9249-CD9FC7973D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4401-6CDA-4F89-B573-25197F9F7C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B06C-5519-4AD3-A2C5-43B7929173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A0BD-3F30-4F09-A7F6-02993750B5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1A21-D5F7-4112-AD52-4DCB3944F9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2D35-3671-4D05-A82A-7FA2B83747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6855-C4FA-4158-9877-BBBCCC6028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B1A-9CF5-4C05-8423-877BE19D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401-C8DF-45EE-90BD-B85A4296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5BB-E5BE-431F-86B7-DE82F086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D46F-9D37-4E4B-A198-E7199877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DF0-EA1E-4A82-9D38-FBBD8E2B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7132-1A05-4A84-B89B-B9995DD7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83F-3862-4638-ADB0-6AD7C05F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4FF-9CF5-4692-A6C2-A7770D67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FEEE-D165-494E-929E-F2FF7C16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E18-03FD-44DE-B180-BD9DEAA6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D83-07A7-4071-A332-1B11D1DD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C04-1522-4F0C-8E24-9A741C5C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BF13-48C8-4BDD-B09A-87D3DB2A3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676160" y="533520"/>
            <a:ext cx="7010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умайте о людях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торых хотите достичь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литесь о них. Просите Господа открыть для вас возможности проявить Его любовь по отношению к людя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Разговаривайте с людьми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лушайте их. Станьте их друг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явите свою забот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одите с ними большое количество времени. Обращайте внимание на то, что важно для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елайте для них добрые дела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даже если вам приходится жертвовать собой. Станьте для них самым лучшим другом, какого         у них не было раньше. Пусть Божия любовь течет от вас к ни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800" y="11890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делитесь с ними Божьей истиной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е о том,                что мы «посланники Божии                и Он проявляется в нас».            Посол говорит от имени руководителя своей страны                и обращается к оппози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окажите людям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уть Иисуса Хрис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4760" y="2255760"/>
            <a:ext cx="69339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делитесь с людь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оим опытом обретения Иисуса Христ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кажите им,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что они могут сделать      со своей сторо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Calibri"/>
              </a:rPr>
              <a:t>Когда они однажды познакомятся со Христом, вам необходимо стать для них очень близким человеком, словно для новорожденного младенца.</a:t>
            </a:r>
            <a:r>
              <a:rPr b="0" lang="ru-RU" sz="33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447920" y="763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могай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ореняться в Слове Божь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жизненный путь приготовил Господь для Своих детей. Расскажите о примерах из своей жиз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ясните ваш опы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Расс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новом враге – Сатане. Помогите им понять, что дьявол пытается сделать, и как он будет действов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Молитесь о них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нем и ночью. Никогда не сдавайт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дна из важных составляющих дружбы – уважение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, нам представится возможность стать другом для человека, который принадлежит другой культуре    или религии. Жизненно важно с уважением относиться к культуре и религии другого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09120" y="29718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Апостол Павел напоминает нам        в 1 послании Коринфянам 9:19-23,  что нам необходимо стать «всем для всех». Ниже предложены несколько полезных советов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457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Уделите время тому, чтобы изучить культуру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религиозные убеждения с целью лучшего понимания происхождения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внимательны к выбору одежд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айтесь не совершать неуместных действий и не говорить неподобающих сл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общие религиозные убе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980720" y="76212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кротким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те готовы не только учить людей,                    но и учиться у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то,        что вас объединяет.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оба любите ходить в походы, заниматься садоводством, чтение или плавание? Начните с того,    что вас объединя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P:\DEPT\WM\_SHARED\2011 Adviosry Resources\Nurture-Empower-Outreach\EMPOWER\EVANGELISM MANUAL - EDITED\PP evangelism\Chapter 06 text3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2971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Дружить – то, что может делать каждый       из нас. Дружественный евангелизм – </a:t>
            </a:r>
            <a:r>
              <a:rPr b="1" lang="en-US" sz="3000" spc="-1" strike="noStrike">
                <a:solidFill>
                  <a:srgbClr val="f2f2f2"/>
                </a:solidFill>
                <a:latin typeface="Calibri"/>
              </a:rPr>
              <a:t>            </a:t>
            </a: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то, что может делать каждый из нас.                     Вы и я можем изменить жизни других людей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Если каждый верующий человек станет другом для кого-нибудь и осторожно и нежно будет вести этого человека ко Христу, каким удивительным станет мир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6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6858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</a:t>
            </a:r>
            <a:r>
              <a:rPr b="1" lang="en-US" sz="4000" spc="-1" strike="noStrike">
                <a:solidFill>
                  <a:srgbClr val="c00000"/>
                </a:solidFill>
                <a:latin typeface="Trajan Pro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495680" y="1752480"/>
            <a:ext cx="50292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Глава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Calibri"/>
              </a:rPr>
              <a:t> 6. </a:t>
            </a:r>
            <a:br>
              <a:rPr sz="4000"/>
            </a:br>
            <a:r>
              <a:rPr b="1" lang="ru-RU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Дружественный Евангелизм</a:t>
            </a:r>
            <a:r>
              <a:rPr b="1" lang="en-US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 ДРУГА К ДРУГ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181480" y="5800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Генеральная Конференция</a:t>
            </a:r>
            <a:r>
              <a:rPr b="1" lang="en-US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7086600" y="540072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ишь метод Христа принесет подлинный успех в проповеди людям Божьей истины.      Находясь среди людей. Спасител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бщалс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с ними, желая им добра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являл к ним сочувств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лужил их нуждам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воевывал их довер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И только после этого Иисус говорил им: "Следуй за Мною". –    Е. Уайт, «Служение исцеления», стр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1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04920" y="28954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58ed5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ример Иисуса Христа являет собой основу для евангельской работы, которая получила название Дружественный евангелиз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возникает вместе с нашей силой во Христе и Его силой в нас. Он возникает вместе             с глубокими и жизнетворными взаимоотношениями с живым Богом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533520" y="2819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Дружественным евангелизм означает заботу о людях. Самая успешная евангельская работа зиждется на взаимном доверии           и уважении, которое строится между друзьями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мы строим дружеские отношения, будучи христианам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904760" y="114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забот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людях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принима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любить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 которых мы надеемся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980720" y="76212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ужно построить значимые отношения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людьми, которых мы хотим достич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риближатьс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людям, которых мы хотим достич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омога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юдям, которых мы хотим достичь, пережить их трудные времен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2666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Евангельская работа наиболее эффективна, когда мы по-настоящему любим и заботимся о людях. Дружеский евангелизм заключается  в проявлении любви к людя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Не только говорите о любви,                но и проявляйте е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6840" y="32767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Я могу задать себе вопрос: что я могу сделать? Как достичь люд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?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Существует множество пут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Ниже приведены несколько идей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0:06Z</dcterms:created>
  <dc:creator/>
  <dc:description/>
  <dc:language>en-US</dc:language>
  <cp:lastModifiedBy>Sergei &amp; Helen</cp:lastModifiedBy>
  <dcterms:modified xsi:type="dcterms:W3CDTF">2011-09-16T16:00:00Z</dcterms:modified>
  <cp:revision>2</cp:revision>
  <dc:subject/>
  <dc:title>ЕВАНГЕЛИЗМ для КАЖДОГО</dc:title>
</cp:coreProperties>
</file>